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2F46-7411-435C-9FF3-6FD4E0FF0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8FB2-E73F-478A-9DFF-F960834F6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83B0-8E3D-4925-A2A9-390E10F43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7CCE-682B-455D-86D2-F4A3A9E19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4BC1-2570-4F7F-967C-6584D8D26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459D-CB2A-4043-9E56-60813DE59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5AF3-7A62-4129-BEF9-A7734D3BD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04F6-9EBA-4BFC-A188-AFD06040F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5A78-A88D-4FCB-B1FA-B6D5434B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F609-7DD6-4337-8084-6B0EAB10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6CC9-7C7D-4FE3-B295-840AA113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12BE-1CF6-4757-8735-ADE5A582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ff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47BC4-F63D-4151-906C-FB54B1C3AF60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ff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vasútfejlesztés fényko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IX. század második fe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ff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109440" y="31680"/>
            <a:ext cx="9362880" cy="6800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-147600" y="81000"/>
            <a:ext cx="9362880" cy="68007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-301680" y="-142920"/>
            <a:ext cx="9363240" cy="68007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-298440" y="-74520"/>
            <a:ext cx="9363240" cy="68007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850–189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ff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109440" y="31680"/>
            <a:ext cx="9362880" cy="6800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-204840" y="104760"/>
            <a:ext cx="9410760" cy="68389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850–189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09:34:09Z</dcterms:created>
  <dc:creator>OKÉV</dc:creator>
  <dc:description/>
  <dc:language>en-US</dc:language>
  <cp:lastModifiedBy>OKÉV</cp:lastModifiedBy>
  <dcterms:modified xsi:type="dcterms:W3CDTF">2006-05-20T09:55:54Z</dcterms:modified>
  <cp:revision>9</cp:revision>
  <dc:subject/>
  <dc:title>A vasútfejlesztés fénykora</dc:title>
</cp:coreProperties>
</file>